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872-063B-4D7D-8373-D18BD39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3C5-6D1F-4069-ACBF-AEAE763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23F-E130-42D6-B316-576F76CE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0DB-823D-44B0-A5E0-A9A166A5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5D3-9418-411E-9519-2C2CDE32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BA0-442E-4540-933D-FBAEC63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382-7737-4A2C-8017-0E14156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15E-8C0B-46C4-890D-6479243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F9-DCCA-45B5-8794-85DBCBE1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81C-0B8E-48AC-9868-776E64A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0B2-134B-4AD6-8CF3-0428A8C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A68-E833-4240-AFCE-E615C3D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C60-DC90-4E7F-96FF-DF885E84E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issipp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jewelrymall.com/cgibin/xlinker.cgi?loc=112&amp;lf=112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9680" y="5334120"/>
            <a:ext cx="20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Rodrig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. 17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3716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0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ssissipp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10552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Song: Fifty States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issipp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5/11, 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2,967,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December10,1699 as the 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by valor and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Magnoli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Magn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Mocking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Go,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from Indian  tribes Ojibwa mici zibi meaning “Great River” or “Gathering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Highest point Woodall mountains. Also makes a lot of money from cotton Mississippi is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tton making in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2686320" cy="419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979880"/>
            <a:ext cx="2895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chanted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ssissippi, October 18,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issipp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of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590920"/>
            <a:ext cx="3348000" cy="377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62720" y="1371600"/>
            <a:ext cx="32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24 2011 http://www.jewelrymall.com/stones/ag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rges petrified w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1522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ton Hall in Natchez 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632448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C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25,2011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337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485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Card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,2011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8Z</dcterms:created>
  <dc:creator>install</dc:creator>
  <dc:description/>
  <dc:language>en-US</dc:language>
  <cp:lastModifiedBy>install</cp:lastModifiedBy>
  <dcterms:modified xsi:type="dcterms:W3CDTF">2011-10-27T13:39:15Z</dcterms:modified>
  <cp:revision>7</cp:revision>
  <dc:subject/>
  <dc:title>Slide 1</dc:title>
</cp:coreProperties>
</file>